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93D-8A00-4963-AD06-80B16918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D77F-F432-4A00-8D31-63CB6ED9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392-2DB7-4714-8307-35F4E604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A12-BEB5-4EFC-9A21-2631F3E6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5F8B-7274-4E88-A4A0-51340078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9954-CDCE-4C53-88CE-F6FE41A1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8311-9061-4D9C-903A-C914AC26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CD0F-D457-4943-B1B5-CECBD232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E65B-E214-4DDD-B29A-629DB4E5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D2A5-D338-4EC3-8A77-02240986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CA42-32B7-4539-8ABD-55AF9CB5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1A5A-3792-4CC5-8A84-7F808F2D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FA99-8E8B-46FF-95DD-89CA9468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F86C-0DDC-4AA2-B00D-540B6B01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4E87-9ABD-4329-8CFE-26103E04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C1A3-D6E8-4A17-9F52-36743757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D16A-7013-4DCE-AC49-D16605F9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73CD-008A-453F-907F-7E5AF38C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16D7-9ED0-49E2-A7E8-AC97B16C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3584-8378-4684-A13D-4DE2994B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0B4D-A453-4398-A90D-9BF9EF0A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FA8B-56A4-4BA3-A817-64163C63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E22B-E4E7-40BC-9F53-4FBCF164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C831-135D-4234-9DF4-1CD34F60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609B-5289-491D-AD69-45323E33F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10440" y="60840"/>
              <a:ext cx="3619800" cy="6131520"/>
              <a:chOff x="5410440" y="60840"/>
              <a:chExt cx="3619800" cy="61315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5960"/>
                <a:ext cx="2115000" cy="23554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7680"/>
                <a:ext cx="906120" cy="84240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520" y="258984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3560"/>
                <a:ext cx="388800" cy="55044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0680" y="264744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7000" y="124452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360" y="2932920"/>
                <a:ext cx="523440" cy="326556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000" y="303480"/>
              <a:ext cx="895680" cy="820800"/>
              <a:chOff x="5652000" y="303480"/>
              <a:chExt cx="895680" cy="8208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880" y="792720"/>
                <a:ext cx="18072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120" y="474480"/>
                <a:ext cx="30852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6800" y="404640"/>
                <a:ext cx="32148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33760"/>
              <a:chOff x="968760" y="5261400"/>
              <a:chExt cx="1059120" cy="83376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24560"/>
                <a:ext cx="250920" cy="3013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920" y="5739120"/>
                <a:ext cx="429480" cy="2502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480" y="5385600"/>
                <a:ext cx="448920" cy="1285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B141-DFC9-4F76-8BC7-601E4766E2EA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76360" y="980640"/>
            <a:ext cx="6192720" cy="27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Solving Exponential Equations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5892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lgebra 2 GHP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Exponential Equations with </a:t>
            </a:r>
            <a:r>
              <a:rPr b="0" i="1" lang="en-US" sz="3000" spc="-1" strike="noStrike">
                <a:solidFill>
                  <a:srgbClr val="006666"/>
                </a:solidFill>
                <a:latin typeface="Verdana"/>
              </a:rPr>
              <a:t>Different</a:t>
            </a: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 Bases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6.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5105520" y="2743200"/>
            <a:ext cx="2743200" cy="39888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4.  Isolate the variabl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36" name="Object 9"/>
          <p:cNvGraphicFramePr/>
          <p:nvPr/>
        </p:nvGraphicFramePr>
        <p:xfrm>
          <a:off x="1752480" y="3259080"/>
          <a:ext cx="2938680" cy="31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259080"/>
                    <a:ext cx="293868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1"/>
          <p:cNvGraphicFramePr/>
          <p:nvPr/>
        </p:nvGraphicFramePr>
        <p:xfrm>
          <a:off x="5486400" y="5703840"/>
          <a:ext cx="160020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5703840"/>
                    <a:ext cx="16002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5"/>
          <p:cNvGraphicFramePr/>
          <p:nvPr/>
        </p:nvGraphicFramePr>
        <p:xfrm>
          <a:off x="914400" y="2575080"/>
          <a:ext cx="3002040" cy="52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2575080"/>
                    <a:ext cx="300204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Exponential Equations with </a:t>
            </a:r>
            <a:r>
              <a:rPr b="0" i="1" lang="en-US" sz="3000" spc="-1" strike="noStrike">
                <a:solidFill>
                  <a:srgbClr val="006666"/>
                </a:solidFill>
                <a:latin typeface="Verdana"/>
              </a:rPr>
              <a:t>Different</a:t>
            </a: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 Bases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7.)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4419720" y="2590920"/>
            <a:ext cx="4038480" cy="7038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1. The exponential expressions are already isolated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4419720" y="4114800"/>
            <a:ext cx="3962160" cy="100872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3.  Use the log rule that lets you rewrite the exponent as a multiplier on each side.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4419720" y="3352680"/>
            <a:ext cx="4038480" cy="7038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2.  Take the log (log or ln) of both sides of the equation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47" name="Object 13"/>
          <p:cNvGraphicFramePr/>
          <p:nvPr/>
        </p:nvGraphicFramePr>
        <p:xfrm>
          <a:off x="468360" y="2719440"/>
          <a:ext cx="3720960" cy="19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19440"/>
                    <a:ext cx="372096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Exponential Equations with </a:t>
            </a:r>
            <a:r>
              <a:rPr b="0" i="1" lang="en-US" sz="3000" spc="-1" strike="noStrike">
                <a:solidFill>
                  <a:srgbClr val="006666"/>
                </a:solidFill>
                <a:latin typeface="Verdana"/>
              </a:rPr>
              <a:t>Different</a:t>
            </a: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 Bases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7.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5562720" y="2666880"/>
            <a:ext cx="3200400" cy="131364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4. To isolate the variable, we need to combine the ‘</a:t>
            </a:r>
            <a:r>
              <a:rPr b="0" i="1" lang="en-US" sz="2000" spc="-1" strike="noStrike">
                <a:solidFill>
                  <a:srgbClr val="0066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’ terms, then factor out the ‘</a:t>
            </a:r>
            <a:r>
              <a:rPr b="0" i="1" lang="en-US" sz="2000" spc="-1" strike="noStrike">
                <a:solidFill>
                  <a:srgbClr val="006699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’ and divid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52" name="Object 7"/>
          <p:cNvGraphicFramePr/>
          <p:nvPr/>
        </p:nvGraphicFramePr>
        <p:xfrm>
          <a:off x="468360" y="2924280"/>
          <a:ext cx="4765680" cy="27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924280"/>
                    <a:ext cx="476568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8"/>
          <p:cNvGraphicFramePr/>
          <p:nvPr/>
        </p:nvGraphicFramePr>
        <p:xfrm>
          <a:off x="2428920" y="5562720"/>
          <a:ext cx="1762200" cy="42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8920" y="5562720"/>
                    <a:ext cx="176220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Exponential Equations with Like Bases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n an Exponential Equation, the variable is in the exponent.  There may be one exponential term or more than one, like…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f you can isolate terms so that the equation can be written as two expressions with the same base, as in the equations above, then the solution is simpl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71" name="Group 8"/>
          <p:cNvGrpSpPr/>
          <p:nvPr/>
        </p:nvGrpSpPr>
        <p:grpSpPr>
          <a:xfrm>
            <a:off x="1905120" y="3443400"/>
            <a:ext cx="5029200" cy="520560"/>
            <a:chOff x="1905120" y="3443400"/>
            <a:chExt cx="5029200" cy="520560"/>
          </a:xfrm>
        </p:grpSpPr>
        <p:graphicFrame>
          <p:nvGraphicFramePr>
            <p:cNvPr id="172" name="Object 5"/>
            <p:cNvGraphicFramePr/>
            <p:nvPr/>
          </p:nvGraphicFramePr>
          <p:xfrm>
            <a:off x="1905120" y="3443400"/>
            <a:ext cx="2057400" cy="490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3443400"/>
                      <a:ext cx="2057400" cy="4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Text Box 6"/>
            <p:cNvSpPr/>
            <p:nvPr/>
          </p:nvSpPr>
          <p:spPr>
            <a:xfrm>
              <a:off x="4267440" y="34434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99"/>
                  </a:solidFill>
                  <a:latin typeface="Times New Roman"/>
                </a:rPr>
                <a:t>or</a:t>
              </a:r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aphicFrame>
          <p:nvGraphicFramePr>
            <p:cNvPr id="175" name="Object 7"/>
            <p:cNvGraphicFramePr/>
            <p:nvPr/>
          </p:nvGraphicFramePr>
          <p:xfrm>
            <a:off x="5172480" y="3443400"/>
            <a:ext cx="1761840" cy="490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72480" y="3443400"/>
                      <a:ext cx="1761840" cy="4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9"/>
              <p:cNvSpPr txBox="1"/>
              <p:nvPr/>
            </p:nvSpPr>
            <p:spPr>
              <a:xfrm>
                <a:off x="4859280" y="2319480"/>
                <a:ext cx="16718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79" name="Object 14"/>
          <p:cNvGraphicFramePr/>
          <p:nvPr/>
        </p:nvGraphicFramePr>
        <p:xfrm>
          <a:off x="1271520" y="1484280"/>
          <a:ext cx="5234040" cy="6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1520" y="1484280"/>
                    <a:ext cx="52340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1" name="Object 17"/>
              <p:cNvSpPr txBox="1"/>
              <p:nvPr/>
            </p:nvSpPr>
            <p:spPr>
              <a:xfrm>
                <a:off x="5076720" y="3156120"/>
                <a:ext cx="12654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2" name="Group 22"/>
          <p:cNvGrpSpPr/>
          <p:nvPr/>
        </p:nvGrpSpPr>
        <p:grpSpPr>
          <a:xfrm>
            <a:off x="2700360" y="4292640"/>
            <a:ext cx="4824360" cy="1584360"/>
            <a:chOff x="2700360" y="4292640"/>
            <a:chExt cx="4824360" cy="1584360"/>
          </a:xfrm>
        </p:grpSpPr>
        <p:sp>
          <p:nvSpPr>
            <p:cNvPr id="183" name="Oval 21"/>
            <p:cNvSpPr/>
            <p:nvPr/>
          </p:nvSpPr>
          <p:spPr>
            <a:xfrm>
              <a:off x="2700360" y="4292640"/>
              <a:ext cx="4824360" cy="1584360"/>
            </a:xfrm>
            <a:prstGeom prst="ellipse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Object 19"/>
                <p:cNvSpPr txBox="1"/>
                <p:nvPr/>
              </p:nvSpPr>
              <p:spPr>
                <a:xfrm>
                  <a:off x="3348000" y="4433760"/>
                  <a:ext cx="316080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or     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y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5" name="Object 20"/>
                <p:cNvSpPr txBox="1"/>
                <p:nvPr/>
              </p:nvSpPr>
              <p:spPr>
                <a:xfrm>
                  <a:off x="5003640" y="5227560"/>
                  <a:ext cx="131148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4859280" y="2781360"/>
                <a:ext cx="1671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88" name="Object 3"/>
          <p:cNvGraphicFramePr/>
          <p:nvPr/>
        </p:nvGraphicFramePr>
        <p:xfrm>
          <a:off x="1258920" y="1498680"/>
          <a:ext cx="525924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98680"/>
                    <a:ext cx="52592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4964040" y="4292640"/>
                <a:ext cx="1490760" cy="21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Oval 6"/>
          <p:cNvSpPr/>
          <p:nvPr/>
        </p:nvSpPr>
        <p:spPr>
          <a:xfrm>
            <a:off x="755640" y="2349360"/>
            <a:ext cx="3311640" cy="12193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Convert to the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same base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163440" y="4005360"/>
            <a:ext cx="4498920" cy="12906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Equate the exponents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2411280" y="3530520"/>
            <a:ext cx="1800" cy="474840"/>
          </a:xfrm>
          <a:prstGeom prst="line">
            <a:avLst/>
          </a:prstGeom>
          <a:ln w="381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"/>
              <p:cNvSpPr txBox="1"/>
              <p:nvPr/>
            </p:nvSpPr>
            <p:spPr>
              <a:xfrm>
                <a:off x="5148360" y="2625840"/>
                <a:ext cx="26654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96" name="Object 3"/>
          <p:cNvGraphicFramePr/>
          <p:nvPr/>
        </p:nvGraphicFramePr>
        <p:xfrm>
          <a:off x="1276200" y="1531800"/>
          <a:ext cx="622944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1531800"/>
                    <a:ext cx="622944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5148360" y="4465800"/>
                <a:ext cx="2341440" cy="13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Oval 6"/>
          <p:cNvSpPr/>
          <p:nvPr/>
        </p:nvSpPr>
        <p:spPr>
          <a:xfrm>
            <a:off x="755640" y="2498760"/>
            <a:ext cx="3311640" cy="121932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Convert to the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same base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2411280" y="3751200"/>
            <a:ext cx="1800" cy="474840"/>
          </a:xfrm>
          <a:prstGeom prst="line">
            <a:avLst/>
          </a:prstGeom>
          <a:ln w="381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163440" y="4226040"/>
            <a:ext cx="4498920" cy="129060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99"/>
                </a:solidFill>
                <a:latin typeface="Verdana"/>
              </a:rPr>
              <a:t>Equate the exponents</a:t>
            </a:r>
            <a:endParaRPr b="0" lang="en-US" sz="25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6840" y="1886040"/>
            <a:ext cx="817884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4.)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1523880" y="2544840"/>
          <a:ext cx="2156040" cy="17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544840"/>
                    <a:ext cx="215604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 Box 8"/>
          <p:cNvSpPr/>
          <p:nvPr/>
        </p:nvSpPr>
        <p:spPr>
          <a:xfrm>
            <a:off x="4419720" y="2895480"/>
            <a:ext cx="3962160" cy="100872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1.  Isolate the exponential expression and rewrite the constant in terms of the same bas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06" name="Object 9"/>
          <p:cNvGraphicFramePr/>
          <p:nvPr/>
        </p:nvGraphicFramePr>
        <p:xfrm>
          <a:off x="1927080" y="4470480"/>
          <a:ext cx="1730520" cy="21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7080" y="4470480"/>
                    <a:ext cx="17305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Text Box 10"/>
          <p:cNvSpPr/>
          <p:nvPr/>
        </p:nvSpPr>
        <p:spPr>
          <a:xfrm>
            <a:off x="4419720" y="4327560"/>
            <a:ext cx="3962160" cy="100872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2.  Set the exponents equal to each other (drop the bases) and solve the resulting equation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6840" y="1886040"/>
            <a:ext cx="817884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5.)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10" name="Object 6"/>
          <p:cNvGraphicFramePr/>
          <p:nvPr/>
        </p:nvGraphicFramePr>
        <p:xfrm>
          <a:off x="1523880" y="2533680"/>
          <a:ext cx="2219400" cy="19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533680"/>
                    <a:ext cx="221940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7"/>
          <p:cNvSpPr/>
          <p:nvPr/>
        </p:nvSpPr>
        <p:spPr>
          <a:xfrm>
            <a:off x="4495680" y="2743200"/>
            <a:ext cx="3962520" cy="131364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1.  Isolate the exponential expressions on either side of the =.  We then rewrite the 2nd expression in terms of the same base as the first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495680" y="4708440"/>
            <a:ext cx="3962520" cy="100872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2.  Set the exponents equal to each other (drop the bases) and solve the resulting equation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14" name="Object 9"/>
          <p:cNvGraphicFramePr/>
          <p:nvPr/>
        </p:nvGraphicFramePr>
        <p:xfrm>
          <a:off x="1405080" y="4702320"/>
          <a:ext cx="2252520" cy="101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5080" y="4702320"/>
                    <a:ext cx="225252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Exponential Equations with </a:t>
            </a:r>
            <a:r>
              <a:rPr b="0" i="1" lang="en-US" sz="3000" spc="-1" strike="noStrike">
                <a:solidFill>
                  <a:srgbClr val="006666"/>
                </a:solidFill>
                <a:latin typeface="Verdana"/>
              </a:rPr>
              <a:t>Different</a:t>
            </a: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 Bases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Exponential Equations below contain exponential expressions whose bases cannot be rewritten as the same rational number.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solutions are irrational numbers, we will need to use a log function to evaluate them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18" name="Group 8"/>
          <p:cNvGrpSpPr/>
          <p:nvPr/>
        </p:nvGrpSpPr>
        <p:grpSpPr>
          <a:xfrm>
            <a:off x="1908000" y="3962520"/>
            <a:ext cx="5094360" cy="520560"/>
            <a:chOff x="1908000" y="3962520"/>
            <a:chExt cx="5094360" cy="520560"/>
          </a:xfrm>
        </p:grpSpPr>
        <p:graphicFrame>
          <p:nvGraphicFramePr>
            <p:cNvPr id="219" name="Object 5"/>
            <p:cNvGraphicFramePr/>
            <p:nvPr/>
          </p:nvGraphicFramePr>
          <p:xfrm>
            <a:off x="1908000" y="3962520"/>
            <a:ext cx="2187360" cy="49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8000" y="3962520"/>
                      <a:ext cx="2187360" cy="49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Text Box 6"/>
            <p:cNvSpPr/>
            <p:nvPr/>
          </p:nvSpPr>
          <p:spPr>
            <a:xfrm>
              <a:off x="4335120" y="3962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99"/>
                  </a:solidFill>
                  <a:latin typeface="Times New Roman"/>
                </a:rPr>
                <a:t>or</a:t>
              </a:r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aphicFrame>
          <p:nvGraphicFramePr>
            <p:cNvPr id="222" name="Object 7"/>
            <p:cNvGraphicFramePr/>
            <p:nvPr/>
          </p:nvGraphicFramePr>
          <p:xfrm>
            <a:off x="5240160" y="3962520"/>
            <a:ext cx="1762200" cy="49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3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40160" y="3962520"/>
                      <a:ext cx="1762200" cy="49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Exponential Equations with </a:t>
            </a:r>
            <a:r>
              <a:rPr b="0" i="1" lang="en-US" sz="3000" spc="-1" strike="noStrike">
                <a:solidFill>
                  <a:srgbClr val="006666"/>
                </a:solidFill>
                <a:latin typeface="Verdana"/>
              </a:rPr>
              <a:t>Different</a:t>
            </a: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 Bases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6.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419720" y="2803680"/>
            <a:ext cx="4038480" cy="39888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1.  Isolate the exponential expression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419720" y="4495680"/>
            <a:ext cx="3962160" cy="7038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3.  Use the log rule that lets you rewrite the exponent as a multiplier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28" name="Object 9"/>
          <p:cNvGraphicFramePr/>
          <p:nvPr/>
        </p:nvGraphicFramePr>
        <p:xfrm>
          <a:off x="1203480" y="2436840"/>
          <a:ext cx="2220840" cy="114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3480" y="2436840"/>
                    <a:ext cx="222084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Text Box 12"/>
          <p:cNvSpPr/>
          <p:nvPr/>
        </p:nvSpPr>
        <p:spPr>
          <a:xfrm>
            <a:off x="4419720" y="3657600"/>
            <a:ext cx="4038480" cy="7038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2.  Take the log (log or ln) of both sides of the equation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31" name="Object 13"/>
          <p:cNvGraphicFramePr/>
          <p:nvPr/>
        </p:nvGraphicFramePr>
        <p:xfrm>
          <a:off x="762120" y="3828960"/>
          <a:ext cx="3298680" cy="12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828960"/>
                    <a:ext cx="329868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7T05:27:31Z</dcterms:created>
  <dc:creator>Chung Cheng High School(Main)</dc:creator>
  <dc:description/>
  <dc:language>en-US</dc:language>
  <cp:lastModifiedBy>test</cp:lastModifiedBy>
  <dcterms:modified xsi:type="dcterms:W3CDTF">2015-03-27T12:30:02Z</dcterms:modified>
  <cp:revision>193</cp:revision>
  <dc:subject/>
  <dc:title>Additional Mathematics</dc:title>
</cp:coreProperties>
</file>